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B75-9A3B-4A87-8595-0F70EA68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E59-A694-4EF4-AF4E-8AD1585F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99A-3144-45F4-B4F8-BA1703B0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DEF-606B-477A-98ED-B753841D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C2D-87EA-4818-BB85-32468032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EE8-1144-49E6-996A-4A7E9394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F2E-19BD-48C5-9617-2DDBED09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8EB-F5D0-48B4-BFDD-936AB859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979-1A51-4F0D-80F6-31774C6A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AFE-580D-412F-9681-2055DF53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CEE-7A6A-47C0-BC46-126D9B84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94C-9F3C-452F-AFAF-061965F5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96AD-799F-47D2-B0E0-81995A49F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Favo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y Favor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Program Files (x86)\Microsoft Office\MEDIA\CAGCAT10\j0183290.wmf"/>
          <p:cNvPicPr/>
          <p:nvPr/>
        </p:nvPicPr>
        <p:blipFill>
          <a:blip r:embed="rId1"/>
          <a:stretch/>
        </p:blipFill>
        <p:spPr>
          <a:xfrm>
            <a:off x="7265880" y="4622760"/>
            <a:ext cx="1724040" cy="184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dwilliams2\AppData\Local\Microsoft\Windows\Temporary Internet Files\Content.IE5\7KA03RCJ\MC900363562[2].wmf"/>
          <p:cNvPicPr/>
          <p:nvPr/>
        </p:nvPicPr>
        <p:blipFill>
          <a:blip r:embed="rId2"/>
          <a:stretch/>
        </p:blipFill>
        <p:spPr>
          <a:xfrm>
            <a:off x="6831000" y="2535120"/>
            <a:ext cx="1800360" cy="1570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dwilliams2\AppData\Local\Microsoft\Windows\Temporary Internet Files\Content.IE5\TDML042D\MP900442188[1].jpg"/>
          <p:cNvPicPr/>
          <p:nvPr/>
        </p:nvPicPr>
        <p:blipFill>
          <a:blip r:embed="rId3"/>
          <a:stretch/>
        </p:blipFill>
        <p:spPr>
          <a:xfrm>
            <a:off x="7162920" y="762120"/>
            <a:ext cx="151920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dwilliams2\AppData\Local\Microsoft\Windows\Temporary Internet Files\Content.IE5\CS9S25VO\MP900440281[1].jpg"/>
          <p:cNvPicPr/>
          <p:nvPr/>
        </p:nvPicPr>
        <p:blipFill>
          <a:blip r:embed="rId4"/>
          <a:stretch/>
        </p:blipFill>
        <p:spPr>
          <a:xfrm>
            <a:off x="5726160" y="3019320"/>
            <a:ext cx="2031840" cy="3048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dwilliams2\AppData\Local\Microsoft\Windows\Temporary Internet Files\Content.IE5\7KA03RCJ\MC900140891[1].wmf"/>
          <p:cNvPicPr/>
          <p:nvPr/>
        </p:nvPicPr>
        <p:blipFill>
          <a:blip r:embed="rId5"/>
          <a:stretch/>
        </p:blipFill>
        <p:spPr>
          <a:xfrm>
            <a:off x="5943600" y="1905120"/>
            <a:ext cx="1400040" cy="18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dwilliams2\AppData\Local\Microsoft\Windows\Temporary Internet Files\Content.IE5\CS9S25VO\MC900444923[1].jpg"/>
          <p:cNvPicPr/>
          <p:nvPr/>
        </p:nvPicPr>
        <p:blipFill>
          <a:blip r:embed="rId6"/>
          <a:stretch/>
        </p:blipFill>
        <p:spPr>
          <a:xfrm>
            <a:off x="7192800" y="1687680"/>
            <a:ext cx="129564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Users\dwilliams2\AppData\Local\Microsoft\Windows\Temporary Internet Files\Content.IE5\7KA03RCJ\MC900237298[1].wmf"/>
          <p:cNvPicPr/>
          <p:nvPr/>
        </p:nvPicPr>
        <p:blipFill>
          <a:blip r:embed="rId7"/>
          <a:stretch/>
        </p:blipFill>
        <p:spPr>
          <a:xfrm>
            <a:off x="5754600" y="1031760"/>
            <a:ext cx="2151000" cy="181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Users\dwilliams2\AppData\Local\Microsoft\Windows\Temporary Internet Files\Content.IE5\TDML042D\MC900060306[1].wmf"/>
          <p:cNvPicPr/>
          <p:nvPr/>
        </p:nvPicPr>
        <p:blipFill>
          <a:blip r:embed="rId8"/>
          <a:stretch/>
        </p:blipFill>
        <p:spPr>
          <a:xfrm>
            <a:off x="4772160" y="1181160"/>
            <a:ext cx="1814400" cy="15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Program Files (x86)\Microsoft Office\MEDIA\CAGCAT10\j0183328.wmf"/>
          <p:cNvPicPr/>
          <p:nvPr/>
        </p:nvPicPr>
        <p:blipFill>
          <a:blip r:embed="rId9"/>
          <a:stretch/>
        </p:blipFill>
        <p:spPr>
          <a:xfrm>
            <a:off x="5181480" y="4543560"/>
            <a:ext cx="1806840" cy="18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dwilliams2\AppData\Local\Microsoft\Windows\Temporary Internet Files\Content.IE5\TDML042D\MC900295480[1].wmf"/>
          <p:cNvPicPr/>
          <p:nvPr/>
        </p:nvPicPr>
        <p:blipFill>
          <a:blip r:embed="rId10"/>
          <a:stretch/>
        </p:blipFill>
        <p:spPr>
          <a:xfrm>
            <a:off x="4829040" y="2584440"/>
            <a:ext cx="2363760" cy="155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C:\Users\dwilliams2\AppData\Local\Microsoft\Windows\Temporary Internet Files\Content.IE5\CS9S25VO\MP900440278[1].jpg"/>
          <p:cNvPicPr/>
          <p:nvPr/>
        </p:nvPicPr>
        <p:blipFill>
          <a:blip r:embed="rId11"/>
          <a:stretch/>
        </p:blipFill>
        <p:spPr>
          <a:xfrm>
            <a:off x="4992840" y="37558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C:\Users\dwilliams2\AppData\Local\Microsoft\Windows\Temporary Internet Files\Content.IE5\7KA03RCJ\MC900436233[1].png"/>
          <p:cNvPicPr/>
          <p:nvPr/>
        </p:nvPicPr>
        <p:blipFill>
          <a:blip r:embed="rId12"/>
          <a:stretch/>
        </p:blipFill>
        <p:spPr>
          <a:xfrm>
            <a:off x="6621480" y="1068480"/>
            <a:ext cx="20318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7:46:18Z</dcterms:created>
  <dc:creator>dell</dc:creator>
  <dc:description/>
  <dc:language>en-US</dc:language>
  <cp:lastModifiedBy>dell</cp:lastModifiedBy>
  <dcterms:modified xsi:type="dcterms:W3CDTF">2013-12-02T17:55:28Z</dcterms:modified>
  <cp:revision>2</cp:revision>
  <dc:subject/>
  <dc:title>Christmas Favorites</dc:title>
</cp:coreProperties>
</file>